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689B-C0BF-4C75-AF3C-23A74B43C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A0FB-FD21-40A8-A97A-1BA3D2A81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3BFF-EEFA-4CD5-864C-2397B4D89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0340-AAD8-4C7B-B6FF-6082B4AB6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596E-BD64-4118-8725-A6A988994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23A0-0C0F-4F79-BE9A-E9CC98DEB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F2E7-242B-468C-8423-D4AA9AA21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7037-5E8C-40EF-A836-0B764E5FB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54AA-4570-4312-8729-CF0C5C46B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D1AF-F0DC-433E-A01F-C7EDA9E9B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41E9-4A61-45DA-A800-80561AD2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150F-354A-42CA-B6DF-6E5127E29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BA2C5-5D6B-4AB2-8C99-BE0B757CBC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558CB-E2FE-4BD0-A6E4-C07EDA329E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ASOCIACIÓN ARGENTINA DE ESTUDIOS FISC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CICLO INTRODUCTORIO A LA ESPECIALIDAD TRIBU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Primer semestre 20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24/04/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IMPUESTO AL VALOR AGREG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Times New Roman"/>
              </a:rPr>
              <a:t>Pablo Andres Robledo y Angel Pere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380880" y="380880"/>
            <a:ext cx="8305920" cy="586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99CBB-A1A5-4244-9753-47029EE8FE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2"/>
          <p:cNvSpPr/>
          <p:nvPr/>
        </p:nvSpPr>
        <p:spPr>
          <a:xfrm>
            <a:off x="1116000" y="692280"/>
            <a:ext cx="8207280" cy="72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jetos del exterio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ortador, prestatario, responsable sustit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Personas huma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nores de edad / incap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usante///Herederos (Neutral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pons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dres, tutores y cu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erederos, administ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deuda propia y/o aje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304920" y="304920"/>
            <a:ext cx="861048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D6F1D-831A-4A77-BF55-FBD36C3B38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660240" y="9907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entas / - por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425520" y="1360440"/>
            <a:ext cx="19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nombre prop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4"/>
          <p:cNvSpPr/>
          <p:nvPr/>
        </p:nvSpPr>
        <p:spPr>
          <a:xfrm>
            <a:off x="2824200" y="1593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267360" y="128592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8"/>
          <p:cNvSpPr/>
          <p:nvPr/>
        </p:nvSpPr>
        <p:spPr>
          <a:xfrm>
            <a:off x="2824200" y="1593720"/>
            <a:ext cx="1457280" cy="8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89720" y="2158920"/>
            <a:ext cx="1972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iquidación al comi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Crédito Fisc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228600" y="228600"/>
            <a:ext cx="861048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441360" y="27000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1 Rectángulo"/>
          <p:cNvSpPr/>
          <p:nvPr/>
        </p:nvSpPr>
        <p:spPr>
          <a:xfrm>
            <a:off x="4692600" y="128124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venta a tercer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Débito Fiscal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1 Rectángulo"/>
          <p:cNvSpPr/>
          <p:nvPr/>
        </p:nvSpPr>
        <p:spPr>
          <a:xfrm>
            <a:off x="736560" y="2805120"/>
            <a:ext cx="353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mpras / - por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2 Rectángulo"/>
          <p:cNvSpPr/>
          <p:nvPr/>
        </p:nvSpPr>
        <p:spPr>
          <a:xfrm>
            <a:off x="746280" y="334152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nombre prop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4"/>
          <p:cNvSpPr/>
          <p:nvPr/>
        </p:nvSpPr>
        <p:spPr>
          <a:xfrm>
            <a:off x="2976480" y="3635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8"/>
          <p:cNvSpPr/>
          <p:nvPr/>
        </p:nvSpPr>
        <p:spPr>
          <a:xfrm>
            <a:off x="2995560" y="3635280"/>
            <a:ext cx="1457280" cy="8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1 Rectángulo"/>
          <p:cNvSpPr/>
          <p:nvPr/>
        </p:nvSpPr>
        <p:spPr>
          <a:xfrm>
            <a:off x="4511520" y="340344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iquidación al comi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1 Rectángulo"/>
          <p:cNvSpPr/>
          <p:nvPr/>
        </p:nvSpPr>
        <p:spPr>
          <a:xfrm>
            <a:off x="4576680" y="411480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del vendedor (Proveedo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262680" y="332748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"/>
          <p:cNvSpPr/>
          <p:nvPr/>
        </p:nvSpPr>
        <p:spPr>
          <a:xfrm rot="1483800">
            <a:off x="3363120" y="4052880"/>
            <a:ext cx="61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eci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21 Rectángulo"/>
          <p:cNvSpPr/>
          <p:nvPr/>
        </p:nvSpPr>
        <p:spPr>
          <a:xfrm>
            <a:off x="704520" y="4659480"/>
            <a:ext cx="47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entas/ Compras – nombre y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22 Rectángulo"/>
          <p:cNvSpPr/>
          <p:nvPr/>
        </p:nvSpPr>
        <p:spPr>
          <a:xfrm>
            <a:off x="753480" y="5157720"/>
            <a:ext cx="259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n nombre de terc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4"/>
          <p:cNvSpPr/>
          <p:nvPr/>
        </p:nvSpPr>
        <p:spPr>
          <a:xfrm>
            <a:off x="3348000" y="53420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3648600" y="503064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1 Rectángulo"/>
          <p:cNvSpPr/>
          <p:nvPr/>
        </p:nvSpPr>
        <p:spPr>
          <a:xfrm>
            <a:off x="4735440" y="5176800"/>
            <a:ext cx="304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por comisión (al mandan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F962A-22BB-4729-A35A-C8E30BCAE6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212120" y="2174760"/>
            <a:ext cx="4314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orci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E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atos asoci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grupamientos de profes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atos en particip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304920" y="304920"/>
            <a:ext cx="861048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DF39C-DEF1-4CF9-90B0-C46D319BB7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761760" y="350532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E    em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3274560" y="289548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ctura a tercer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3294360" y="3962520"/>
            <a:ext cx="46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de asignación a sus integr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964800" y="5299200"/>
            <a:ext cx="570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eficiente acumulación de créditos fis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7"/>
          <p:cNvSpPr/>
          <p:nvPr/>
        </p:nvSpPr>
        <p:spPr>
          <a:xfrm>
            <a:off x="2666880" y="3200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8"/>
          <p:cNvSpPr/>
          <p:nvPr/>
        </p:nvSpPr>
        <p:spPr>
          <a:xfrm>
            <a:off x="26668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9"/>
          <p:cNvSpPr/>
          <p:nvPr/>
        </p:nvSpPr>
        <p:spPr>
          <a:xfrm>
            <a:off x="2666880" y="3200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38A05-118C-452C-9471-FA6911948D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977040" y="32418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4"/>
          <p:cNvSpPr/>
          <p:nvPr/>
        </p:nvSpPr>
        <p:spPr>
          <a:xfrm>
            <a:off x="1981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3504240" y="3276720"/>
            <a:ext cx="25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de 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2207520" y="4572000"/>
            <a:ext cx="328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lor de trans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tes sin fines de luc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2B1F4-49F0-4735-9D46-2E073DBD6D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1497240" y="1717560"/>
            <a:ext cx="199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orcio p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omin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5579640" y="1676520"/>
            <a:ext cx="224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trucción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omin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4"/>
          <p:cNvSpPr/>
          <p:nvPr/>
        </p:nvSpPr>
        <p:spPr>
          <a:xfrm>
            <a:off x="4114800" y="2057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5"/>
          <p:cNvSpPr/>
          <p:nvPr/>
        </p:nvSpPr>
        <p:spPr>
          <a:xfrm>
            <a:off x="411480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6"/>
          <p:cNvSpPr/>
          <p:nvPr/>
        </p:nvSpPr>
        <p:spPr>
          <a:xfrm flipH="1">
            <a:off x="4343040" y="17524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5650560" y="41497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ctamen 21/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8"/>
          <p:cNvSpPr/>
          <p:nvPr/>
        </p:nvSpPr>
        <p:spPr>
          <a:xfrm>
            <a:off x="2556000" y="2455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608400" y="3043080"/>
            <a:ext cx="385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hay venta, es adjud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0"/>
          <p:cNvSpPr/>
          <p:nvPr/>
        </p:nvSpPr>
        <p:spPr>
          <a:xfrm>
            <a:off x="2556000" y="354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1475280" y="41911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ctamen 47/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324000" y="404640"/>
            <a:ext cx="84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228600" y="304920"/>
            <a:ext cx="861048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4"/>
          <p:cNvSpPr/>
          <p:nvPr/>
        </p:nvSpPr>
        <p:spPr>
          <a:xfrm>
            <a:off x="6732720" y="2455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5391720" y="3043080"/>
            <a:ext cx="26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alidad econó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6"/>
          <p:cNvSpPr/>
          <p:nvPr/>
        </p:nvSpPr>
        <p:spPr>
          <a:xfrm>
            <a:off x="6732720" y="354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684360" y="5348160"/>
            <a:ext cx="50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Fideicomis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9AAC4-90BD-4B65-999A-A234576D2D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trato en participacion</a:t>
            </a:r>
            <a:br>
              <a:rPr sz="2800"/>
            </a:b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(Sociedad Accident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197000" y="2631960"/>
            <a:ext cx="41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jeto col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jeto  - socio gestor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relación asociativa oculta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ED1DC-8D6F-4523-8FBD-70081D5745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Normas y antecedentes releva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684360" y="1125360"/>
            <a:ext cx="784836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. (AFIP) Nº 2854/10 (Retenciones IVA)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º 2408 (Percepciones IVA) y RG N° 2937 (Percep.Importacion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° 2226 (Certificacados de exclusión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º 689 (Entes colectivos de profesional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Fallo CSJN “Central Neuquen S.A y otros  c/ Prov. Bs. As. Acción declarativa” 16/04/2002. Fallo CNCAF “Ctral Termica Loma de la Lata” 12/3/202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20/94 Menores de 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118/96 (U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4/2001 (Transferencia de participaciones U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178/94 (A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Nº 70/2002 Contrato de maquila (art. Nota externa DGI 4/98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J) Nº 41/85 Consorcios de construcción (condominio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Nº 21/95 Construcción en condomini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L) Nº 19/98 Sociedades accidental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.G. (AFIP) 1032 (Condominios. Locación de inmuebl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55/05; (DAT) 16/06 y (DAT) 18/06 (Fideicomisos. Transferencias y adjudicacion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304920" y="304920"/>
            <a:ext cx="853416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15:37:37Z</dcterms:created>
  <dc:creator>Ernst &amp; Young</dc:creator>
  <dc:description/>
  <dc:language>en-US</dc:language>
  <cp:lastModifiedBy>Angel Pereira</cp:lastModifiedBy>
  <dcterms:modified xsi:type="dcterms:W3CDTF">2024-04-23T15:29:24Z</dcterms:modified>
  <cp:revision>217</cp:revision>
  <dc:subject/>
  <dc:title>ASOCIACION ARGENTINA DE ESTUDIOS FISCALES</dc:title>
</cp:coreProperties>
</file>